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024-CF1A-4499-B581-63439B5A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828-7C29-454F-9ABD-8141B3FF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22E3-F134-4298-B70A-D95E8F83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F96-3FC2-4DEE-B944-4EE068DC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C155-C60C-47FE-9A8A-5580427E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5E94-FDC6-4BE9-BB51-6CF52C6B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818C-7F46-4D88-808B-110008D1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9AB-B509-4B5F-81B3-327B038F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B40B-283B-4A46-A373-70119A6E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ED5C-9862-47BF-AF59-E03DD5FD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C28-BA90-47D8-9FF1-874EF8FD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E788-03F8-4A70-848D-3F228DE9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C3F4-5C07-443F-92DB-DA8C87331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 J’étais Un Anima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j’étais un paresseux, je tenterais des exercices périlleux, et on ne me dirait pas que c’est dangereu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4267080"/>
            <a:ext cx="3581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si j’étais un paresseux, me lever tôt le matin serait bien laborieu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j’étais un cochon, je salirais mon pantalon, et on ne me traiterait pas d’animal s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4724280"/>
            <a:ext cx="52578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si j’étais un cochon, j’aurais peur de finir en sauci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228600" y="457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j’étais un escargot, j’avancerais piano, piano, et ma lenteur ne serait pas un défa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4571640"/>
            <a:ext cx="4800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si j’étais un escargot, je paniquerias sûrement entre les au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j’étais un perroquet, je répéterais le même refrain sans arrêt, et on n’essaierait pas de me rabattre le caqu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50752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si j’étais un perroquet, je m’ennuierais seul dans ma cage, sans aucun jou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j’étais un ouistiti, je ferais plein de gouzi-gouzi, et on ne me trouverait pas impo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si j’étais un ouistiti, je ne pourrais pas lire le soir dans mon l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5029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j’étais une souris, je grignoterais pendant la nuit, et on ne me dirait pas que c’est inter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4038480"/>
            <a:ext cx="4038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j’étais un hibou, même à minuit, je ferais le fou, et on ne me reprocherait pas d’être encore de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411480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si j’étais un hibou, côtoyer les loups-garous ne me plairait pas du t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434340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ement, je ne suis pas un an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ulement un enfant assez géni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 a l’âge de 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, surtout, beaucoup d’imag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105160"/>
            <a:ext cx="45720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si j’étais une souris, le chat ne serait pas mon 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j’étais un chat, je mettrais mes pattes sur le sofa, et on me dirait pas que ça ne se fait p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51051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si j’étais un chat, prendre un bain ne me plairait p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19360" y="2438280"/>
            <a:ext cx="4724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j’étais un pingouin, je jouerais au sous-marin, et on ne m’obligerait pas à sortir du b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343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si j’étais un pingouin, j’aurais la nostalgie de mon pays loin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j’étais un chien, je lécherais mon assiette (et même celle du voisin), et on ne me dirait pas que c’est vi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si j’étais un chien, je resterais à la porte des magas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10:21Z</dcterms:created>
  <dc:creator>CVJH-LAB</dc:creator>
  <dc:description/>
  <dc:language>en-US</dc:language>
  <cp:lastModifiedBy>nield411</cp:lastModifiedBy>
  <dcterms:modified xsi:type="dcterms:W3CDTF">2008-02-27T04:42:22Z</dcterms:modified>
  <cp:revision>7</cp:revision>
  <dc:subject/>
  <dc:title>Slide 1</dc:title>
</cp:coreProperties>
</file>